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F65-17AE-43BC-8D69-B9D86CAC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592-FC7D-4630-BB38-14EC63BE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DD2-30E3-4867-BDD6-4DD3DCBD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88A-427B-42CC-95FA-73D2F4F2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3854-99B2-48C4-ADE5-D3050F6B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796A-EF4B-48EB-AFA7-1D80FDA9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E202-AE75-4A36-8E9C-6BBE5F5F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592B-C1EE-4251-850B-5228F029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6D0F-4228-41D3-98FA-853A6F3C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6D8D-7E60-429F-8557-0269355E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8737-0EB8-4355-A033-5A56E1BE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47C-127C-4169-8C91-496FAE33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90A2-9B2E-41FD-A741-1350B560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44C4-FDBF-4EB6-8CE0-EB719F2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864A-EB35-4711-B4DA-7A21E94B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BDF9-1CFA-466B-9D01-7E96A8FF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6632-90A3-4746-9E30-AD124A5B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489-FC5C-43A7-82BE-E64E7060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D86-777A-4B09-9E40-BAFAEB50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5A8-F020-47F9-AFDF-5D7B2F56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BD7-E55F-4D04-8B2A-92A28D90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AD8-AB27-4AE4-9165-68A1E5C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765-2E3A-4192-894F-28F5AB22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F20-A59F-4107-8FC9-0785CB8B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0dee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65B0-2803-40B0-B351-DC0DFFA92485}" type="datetime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5351-62B8-465F-A20D-93FF0C1757F9}" type="slidenum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atch_title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10663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717A-1D0C-498D-9B3D-6D9D9A661A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E21C-E53A-4A17-968B-07C45A9EB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dee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0dee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0dee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BANKERS ASSOCIATION OF TURKEY -  MONEY LAUNDERING CONFERENCE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962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Current International Developments in Combating Money Laundering &amp; 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John Carlson, FATF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Istanbul, 24 May 2002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3. Non-financial businesses and profess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ly the 40 Recommendations to -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asinos and other gambling business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alers in real estate and high value item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mpany and trust service provid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Lawy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otari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Accounting Professional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vestment adviso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 effective STR system is critical to the anti-money laundering system and the bank: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required by the FATF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discourages criminals from misusing banks, as they would be concerned about discove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part of banks due diligence systems, and helps to protect against fraud and other crimes affecting the solvency of the bank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essential to protect the banks reputat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5800" y="1268280"/>
          <a:ext cx="7772400" cy="431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68280"/>
                    <a:ext cx="77724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053880" y="357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Results in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5800" y="2895480"/>
          <a:ext cx="7772400" cy="25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895480"/>
                    <a:ext cx="77724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6480" y="152316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STR in three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mproved STR Effectivenes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ing the level of feedback to reporting institutions, and also creating a closer working relationship between the FIU, the regulator and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ed education and training for front-line and other staff of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compliance officers are filtering reports in an appropriate w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financial institutions and their staff have appropriate legal protection from criminal and civil proceedings, which will thus encourage them to make report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ocussing increased attention on the NBFI sector, and also on non-cash transac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all institutions within each sector make reports where appropriate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0deed"/>
                </a:solidFill>
                <a:uFillTx/>
                <a:latin typeface="Arial"/>
              </a:rPr>
              <a:t>Topics covered in this Presentation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rrent status of the Non-Cooperative Countries and Territories (NCCT) exercise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view of the FATF 40 Recommendation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mportance and role of Suspicious Transaction Reports (STR)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5 Non-Cooperative Countries and Territories June 2000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Bahama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ayman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iechtenstei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7 NCCTs - June 2001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9 NCCT - May 2002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renad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arshall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Extra counter-measure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cter requirements to identify clients from NCC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or systematic reporting of financial transac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CCT based bank requests establishing a subsidiary, branch or representative office take into account that jurisdiction is NCC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non-financial sector businesses of the risk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1460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Major issues in Review of 40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view begun last ye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ATF has prepared a public consultation paper that sets out the issues and the risks, and provides one or more options for dealing with them.  Should be issued 30/31 M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he financial sector and all other interested parties are invited to provide comments to the FATF on the issues raised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66"/>
                </a:solidFill>
                <a:uFillTx/>
                <a:latin typeface="Times New Roman"/>
              </a:rPr>
              <a:t>1. Customer due diligence, suspicious transaction reporting and regulation and supervis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efine the obligations to identify and verify the identity of the customer and the beneficial owner, and to perform necessary due diligence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Categories of customer or transactions where there is potentially a higher risk: politically exposed persons, correspondent banking and electronic and other non face-to-face financial service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Simplified or alternative measures for lower risk scenarios, “introduced business” and reliance on third parties to perform some of the identification and verification function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ole of financial intelligence units (MASAK), the need for feedback to reporting institutions, and the regulation and supervision of institutions.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2. Information on beneficial ownership and control of companies, trusts etc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cess to information by law enforcement, regulators and financial institu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aper examines the risks, the current obligations, the purposes for which beneficial ownership and control information is required, the essential requirements and possible measures that could be take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easures to take regarding bearer shares and trus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49:44Z</dcterms:created>
  <dc:creator>OECD</dc:creator>
  <dc:description/>
  <dc:language>en-US</dc:language>
  <cp:lastModifiedBy>EILEEN</cp:lastModifiedBy>
  <cp:lastPrinted>2002-05-23T12:58:07Z</cp:lastPrinted>
  <dcterms:modified xsi:type="dcterms:W3CDTF">2002-05-23T13:38:46Z</dcterms:modified>
  <cp:revision>30</cp:revision>
  <dc:subject/>
  <dc:title>Title</dc:title>
</cp:coreProperties>
</file>